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E86-3CEB-4C0E-84CB-A019AB9E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A23-9727-424E-A7E0-F6662249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D49-A45A-4B3A-9CA0-4C0B616E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2A6-20B6-4E27-B902-D545480E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825C-4538-423B-975F-D7864130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C92-9F99-40A8-888E-2E0E98AB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8C3-8F98-49CD-9616-1C9F9625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64F-3BFD-4A01-81FA-D5F4EB45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0D8-EFDA-4D94-9BE5-6BED3277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AF0-A3D0-4D8F-8F4E-08A2BF4C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FF3-D63B-47C3-AD2C-DCBD2E1C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1D7-DA92-4B62-9CC4-4097130C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141F-0EEE-4553-ACC8-2AB7F00141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7375e"/>
                </a:solidFill>
                <a:latin typeface="Arial Narrow"/>
              </a:rPr>
              <a:t>مهارات الكتابة الإ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Arial"/>
              </a:rPr>
              <a:t>أ. محمد الحري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Arial"/>
              </a:rPr>
              <a:t>الفصل الثان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Arial"/>
              </a:rPr>
              <a:t>أنواع التقاريـــ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3733920" y="658800"/>
            <a:ext cx="2095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التقارير المالية حسب الاحتيا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</a:rPr>
              <a:t>تقارير الاتجا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تبين نتائج  نشاط معين على مدار زمن معين، بالتالي محاولة التنبؤ بالاتجاه الذي سيتجه إليه هذا النشا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</a:rPr>
              <a:t>التقارير التحلي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تدرس حالة أمر ما في أماكن (بيئات) مختلفة أو تدرس أنشطة مختلفة لأمر م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مثال: قيمة الأرباح لسلعة ما في السعودية أعلى من أي سوق محلية أخر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ابع: التقارير المالية حسب الاحتيا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</a:rPr>
              <a:t>تقاريرالأرباح والخسار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تحديد الربح والخسارة خلال فترة معي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تمتاز بكونها مختص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</a:rPr>
              <a:t>تقارير التكال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توصل بيانات التكلفة إلى جهات إدارية تنفيذ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"/>
              </a:rPr>
              <a:t>تحتاجها الإدارة لضبط التكلفة ولتقليل قيمة الإنفاق من خلال تغيير خطط الإنت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7</a:t>
            </a: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- تقارير 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قاريرمراقبة وتقييم الأد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r" rtl="1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ا الهدف منها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قارير الإنتاج والمبي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r" rtl="1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ا الهدف منها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r" rtl="1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قارير علمية متخصص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33"/>
                </a:solidFill>
                <a:latin typeface="Arial"/>
                <a:cs typeface="PT Bold Heading"/>
              </a:rPr>
              <a:t>أمثلة لتقاري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 Department Budget (FY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لف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Evaluation Report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لف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Report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ل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عرف على طرق تصنيف التقار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عرف على أنواع التقارير بناء على تصنيف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نواع من التقاري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قارير الما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قارير الاتج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قارير تحلي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قارير الأرباح والخسائ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قارير التكالي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قارير 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06668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صنّف التقارير بناء على 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طبيعة التقار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خب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لحلي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رجة رسمية التقر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س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غير رس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سب الفترة الزم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و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غير دو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7925040" cy="4438800"/>
          </a:xfrm>
          <a:prstGeom prst="rect">
            <a:avLst/>
          </a:prstGeom>
          <a:ln w="0">
            <a:noFill/>
          </a:ln>
        </p:spPr>
      </p:pic>
      <p:sp>
        <p:nvSpPr>
          <p:cNvPr id="48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1166760"/>
            <a:ext cx="80769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43000" y="1757520"/>
            <a:ext cx="76960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723888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5</a:t>
            </a: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-</a:t>
            </a:r>
            <a:r>
              <a:rPr b="0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 تقارير دورية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iodical Reports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ُعَد على فترات زمنية منتظ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ن أمثلتها: تقرير المبيعات والحضور والغي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6</a:t>
            </a: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-</a:t>
            </a:r>
            <a:r>
              <a:rPr b="0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 تقارير غير دورية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-Periodical Reports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لا يرتبط  إعدادها بزمن معيّ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ُعَد حين يحتاج إلي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ن أمثلتها: تقارير التقدم في إنجاز العمل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ess Reports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  <a:cs typeface="Times New Roman"/>
              </a:rPr>
              <a:t>الفصل الثاني: أنواع التقار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7</a:t>
            </a:r>
            <a:r>
              <a:rPr b="1" lang="ar-SA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- التقارير المالية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ancial Reports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تتعد التقارير المالية بحسب الغرض منها، ويمكن تصنيف هذا النوع من التقارير بناء على أمرين: الزمن أو الاحتيا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التقارير المالية حسب الزم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تعلقة بالماضي: مثل تقارير الحسابات الختامية والميز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تعلقة بالحاضر: مثل التقارير التحلي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Times New Roman"/>
                <a:cs typeface="Times New Roman"/>
              </a:rPr>
              <a:t>متعلقة بالمستقبل: مثل تقارير الموازنات التخطيط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9:44:00Z</dcterms:created>
  <dc:creator>abc</dc:creator>
  <dc:description/>
  <dc:language>en-US</dc:language>
  <cp:lastModifiedBy>abc</cp:lastModifiedBy>
  <dcterms:modified xsi:type="dcterms:W3CDTF">2012-03-03T23:16:4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